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4A5C-9E86-45D6-A9C3-F31850F44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16E1-BCF3-4383-B8A5-675B3A08D0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FF2-22F3-47CE-9040-75540FF7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113-ECB6-49CD-9E69-447B3577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733-659E-409E-ABA8-EBE78BB3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B06-6A65-460D-8856-71A92DF4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8AD4E-E49E-4A1E-9C7B-A0FB624D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9BFB8-A7B6-40C8-BDED-E03CFFA1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28E3C-AB3D-495F-B517-B2AE2F5D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29B1E-BAF4-41E9-9D81-3B15E847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59D27-2D76-4B58-B714-A3973E6D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64E68-768B-46BB-B9B6-F9464A36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F85D0-07B1-4F5E-A65A-603B85F7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CAF-A17D-4A69-8177-0C8921F0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E63FF-9FF7-47AD-8559-29C4C9C2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DFC5B-1338-4928-9E1E-D2F6389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069FE-6CA1-4664-934D-0B3F80F7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C66D9-F95B-462C-B104-A404FE08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9F814-F0FB-43F6-96C1-B7552A4F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116-F84F-46A4-9096-B51B49E5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8ED-0E0C-48AF-B807-5CD812B6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214-58A0-4F9E-A9E9-7795C146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6426-C3C6-4818-88F9-2750A2FC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B77-9360-4122-B2B1-F32496D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1CC-C9E7-4E74-8ABE-55FAD0F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36E-3952-4B57-9D51-B138638C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069C-1AD7-440C-A466-52D35FBFA9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FD1D-ABF3-4B54-8EB3-A46622438F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7" descr=""/>
          <p:cNvPicPr/>
          <p:nvPr/>
        </p:nvPicPr>
        <p:blipFill>
          <a:blip r:embed="rId2"/>
          <a:stretch/>
        </p:blipFill>
        <p:spPr>
          <a:xfrm>
            <a:off x="1407960" y="2749680"/>
            <a:ext cx="6315120" cy="114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7"/>
          <p:cNvSpPr/>
          <p:nvPr/>
        </p:nvSpPr>
        <p:spPr>
          <a:xfrm>
            <a:off x="685800" y="1676520"/>
            <a:ext cx="763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was born in the Dominican Republ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moved to the US in December of 199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aduated from LHS in 199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"/>
          <p:cNvSpPr/>
          <p:nvPr/>
        </p:nvSpPr>
        <p:spPr>
          <a:xfrm>
            <a:off x="1310400" y="1371600"/>
            <a:ext cx="347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have 3 chrild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aac, 13 yrs o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hrystal, 8 yrs o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aLuna, 9 month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038960" y="1371600"/>
            <a:ext cx="552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urrently enrolled in B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is my junior year in colle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aduating in 201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1536480" y="1523880"/>
            <a:ext cx="760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am social and an outgoing pers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am baseball fanatic, not to the extre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joy music, movies and the Travel Chann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9:14:26Z</dcterms:created>
  <dc:creator>training</dc:creator>
  <dc:description/>
  <dc:language>en-US</dc:language>
  <cp:lastModifiedBy>Microsoft</cp:lastModifiedBy>
  <dcterms:modified xsi:type="dcterms:W3CDTF">2011-10-02T03:26:14Z</dcterms:modified>
  <cp:revision>6</cp:revision>
  <dc:subject/>
  <dc:title>Slide 1</dc:title>
</cp:coreProperties>
</file>